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24A3-5A2E-4551-A127-043C02FF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E752D-C89C-426A-BA7F-E47FB549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9FBA-9D7D-4CA8-9C04-46EBA29E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750C-1C83-43B2-9058-566B02FB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C74F-689D-4468-A24A-288AAF30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E94F-619C-4183-ABBB-21EA86F2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13AC-DB74-4C86-93CF-FD92CB93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0105-084A-456A-B4AD-75446BFB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F0AD-5450-4015-8F59-2F6D6EE6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6691-0B22-452F-9130-D2FF5001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8311-015A-4D6E-8510-FFCDC9C1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6F1F-0EEA-4130-AA9B-DD3F1B30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DD2F-C3EE-4C36-8959-E633E9D9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CF62-4780-4976-9CD0-16FA6B84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5127-E5AB-4230-BADB-3BFF44EB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FA94-D1E3-4132-909F-332B8375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560D-64BC-4177-8F9D-15E8A222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C5F1-E1B5-46F4-95E4-127F75CE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F691-1400-44DC-8D94-E2108DF6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AF95-C205-4B2C-9203-1F7D1089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2AAC-1D92-4503-8E07-714BDDAD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3ECD-B64D-4CFA-8803-71D63EFC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19835-123F-4D27-A161-C673E786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23EF-E3E1-44ED-B47D-FD0E3A31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21C4-49A5-4687-B546-B6F51732D20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25FC-AE52-4D5A-BEA3-3E9D64E9A99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304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9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.14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Дошъл съм, Боже, грешник клет, да търся милост в Твой заве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 дух смирен и цял преда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Агнеца, за мен закла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чакам пред престола Тв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тов на всичко, Боже м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мен което щеш взем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разсей в душа ми тез тъм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О, дръж ме здраво за ръка! Упътван все от Теб так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зете ми от сияйний пъ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 ще да се отдалеча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Ръка в ръка със Тебе, аз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 ще се скитам веч' тога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пътеки срамни на грех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леч от бащина стрех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3064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И вяра дай ми пламен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в Твоите обещания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 моите молби не да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ухът да се поколебай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ъди ми Вожд, докат' за м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дойде в най-последний д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ме приеме моят ми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ител, Бог Емануил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2:38Z</dcterms:modified>
  <cp:revision>130</cp:revision>
  <dc:subject/>
  <dc:title>Slide 1</dc:title>
</cp:coreProperties>
</file>